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08D-88A5-4154-9D28-553CC8A4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018-7D19-405E-A310-8E7A0A40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33D-B71C-4405-B192-23DC2736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E61-6F6B-4068-8CC4-C32D3674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7AC-94EB-4850-9DA8-A28DC993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22E-F215-448C-904B-F95753B7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F96-3935-48F8-A688-D1167B0E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506-0832-46D1-8E4A-1091F77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0D5-1489-466B-B931-099F9CB2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EDC-591A-4381-AB09-59F0B1F4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C6F-0BDD-498E-BDAA-AD4E5B56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B03-68A9-43D6-9B5A-03BA785F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4F89-32AB-45BC-A63B-33C02C800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4560" y="260280"/>
            <a:ext cx="601920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you recognize the perfect te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56040" y="907920"/>
            <a:ext cx="4608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do you look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720" y="2133720"/>
            <a:ext cx="245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Avoi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=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/ ell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v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 / elle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2060640"/>
            <a:ext cx="2189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Êtr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=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/ ell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ê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 / elle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70920" y="5373720"/>
            <a:ext cx="453924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i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Comic Sans MS"/>
              </a:rPr>
              <a:t>travaillé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ans un maga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ed in a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16200" y="5373720"/>
            <a:ext cx="462780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u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Comic Sans MS"/>
              </a:rPr>
              <a:t>allé(e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u travail en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 went to work by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66400" y="6372360"/>
            <a:ext cx="237816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ast parti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1907640" y="5805000"/>
            <a:ext cx="1511640" cy="576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500720" y="5733720"/>
            <a:ext cx="1366560" cy="647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4760" y="2085840"/>
            <a:ext cx="171396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uxill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2349360"/>
            <a:ext cx="936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842920" y="2349360"/>
            <a:ext cx="8650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1:41:36Z</dcterms:created>
  <dc:creator>manager</dc:creator>
  <dc:description/>
  <dc:language>en-US</dc:language>
  <cp:lastModifiedBy>Caroline Cassels</cp:lastModifiedBy>
  <dcterms:modified xsi:type="dcterms:W3CDTF">2007-02-21T00:13:18Z</dcterms:modified>
  <cp:revision>345</cp:revision>
  <dc:subject/>
  <dc:title>No Slide Title</dc:title>
</cp:coreProperties>
</file>